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391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311-3E62-4518-87A4-70ACD466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F59-7A17-4297-B6FE-58CBB678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95B-A03E-4E09-A4C4-15F639C0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3DD-385A-4289-B8EC-A7CA23FE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47BC-8631-4AE3-942C-47069EFE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D69F-0358-4696-8EA6-4CD72B75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F292-B5A7-46D7-B3FC-830F8743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B102-D29F-41AF-905D-ED0891E9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39BF-ECC6-42F7-B8B8-09A07FB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6B8D-2166-4702-BF33-E4259579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54978-AF57-48E0-BB0C-FE0A688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0F4-A7BB-4C10-807D-5C45AE49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01E4C-7980-4E18-A483-41CDC2CD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179D-F538-4FD1-9B0B-B91A761F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C15D-9864-4EFE-A790-39B4ED5F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4731-E9B5-44A9-A4BC-C2C9942F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66F0-B0FB-493C-B0E7-F6227564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3CB2-8F17-4070-97B7-EC1870AE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1A1-3554-4C1B-B14C-FA940330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F333-6F52-4085-A895-63F3E876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2A3F-7D2A-4F20-A57A-DB1181E1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918-1FEF-431E-A547-5463592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90C1-7445-4BEB-9549-494E167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C106-D3B6-434B-B062-82685C30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4D15-3555-4F78-9D98-59AB2BE3CB4E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8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9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030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31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2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033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34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5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36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037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8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039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709F-481E-407C-81B7-0F8C649592A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257440" y="12189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ahoma"/>
              </a:rPr>
              <a:t>HEART DISSE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4120" y="380952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1" name="Picture 7" descr="http://www.people.virginia.edu/~rjh9u/gif/heartstr.gif"/>
          <p:cNvPicPr/>
          <p:nvPr/>
        </p:nvPicPr>
        <p:blipFill>
          <a:blip r:embed="rId1"/>
          <a:stretch/>
        </p:blipFill>
        <p:spPr>
          <a:xfrm>
            <a:off x="685800" y="533520"/>
            <a:ext cx="4572000" cy="55656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eft Ventricular Outflow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276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Blood flows into the ventricles by passing through the mitral valve, but can you see where it flows out? This is a bit of a trick question because the outflow tract is hidden behind the mitral valv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Picture 7" descr="http://www.heartlab.rri.on.ca/dissect/lv_outflow.jpg"/>
          <p:cNvPicPr/>
          <p:nvPr/>
        </p:nvPicPr>
        <p:blipFill>
          <a:blip r:embed="rId1"/>
          <a:stretch/>
        </p:blipFill>
        <p:spPr>
          <a:xfrm>
            <a:off x="533520" y="213372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440" y="129528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6" name="4 Rectángulo"/>
          <p:cNvSpPr/>
          <p:nvPr/>
        </p:nvSpPr>
        <p:spPr>
          <a:xfrm>
            <a:off x="2286000" y="28288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f8f8f8"/>
                </a:solidFill>
                <a:latin typeface="Times New Roman"/>
              </a:rPr>
              <a:t>http://www.makingsenseofhealth.org.uk/gfx/library/resources/HA2_VC.wmv  disec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tact Heart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s shows the pig heart from the front, with the portion on the right of the picture being the left side of the heart and vice ver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aorta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is clearly visible at the top, with an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atrium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on either side, while the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ventricles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are in the bottom left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9" name="Picture 9" descr="http://www.heartlab.rri.on.ca/dissect/intact_heart.jpg"/>
          <p:cNvPicPr/>
          <p:nvPr/>
        </p:nvPicPr>
        <p:blipFill>
          <a:blip r:embed="rId1"/>
          <a:stretch/>
        </p:blipFill>
        <p:spPr>
          <a:xfrm>
            <a:off x="851040" y="1295280"/>
            <a:ext cx="347796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The first incision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… </a:t>
            </a:r>
            <a:r>
              <a:rPr b="1" lang="en-US" sz="2400" spc="-1" strike="noStrike">
                <a:solidFill>
                  <a:srgbClr val="f8f8f8"/>
                </a:solidFill>
                <a:latin typeface="Tahoma"/>
              </a:rPr>
              <a:t>is along the right ventricle.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right ventricle can be identified by squeezing the heart, since the myocardium on the right side is much less rigid than that of the left ventricle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s allows us to see the tricuspid valve and the right ventricular outflow tract which includes the pulmonary valve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7" descr="http://www.heartlab.rri.on.ca/dissect/rv_incision.jpg"/>
          <p:cNvPicPr/>
          <p:nvPr/>
        </p:nvPicPr>
        <p:blipFill>
          <a:blip r:embed="rId1"/>
          <a:stretch/>
        </p:blipFill>
        <p:spPr>
          <a:xfrm>
            <a:off x="304920" y="1447920"/>
            <a:ext cx="4252680" cy="4343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ongitudinal Cut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e right ventricle has been cut open from the bottom towards the top.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In this picture, the myocardium is being held back. My finger is stuck underneath one leaflet of the tricuspid valve, which leads to the pulmonary valve. </a:t>
            </a: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7" name="Picture 7" descr="http://www.heartlab.rri.on.ca/dissect/rv_open.jpg"/>
          <p:cNvPicPr/>
          <p:nvPr/>
        </p:nvPicPr>
        <p:blipFill>
          <a:blip r:embed="rId1"/>
          <a:stretch/>
        </p:blipFill>
        <p:spPr>
          <a:xfrm>
            <a:off x="685800" y="1413000"/>
            <a:ext cx="3809880" cy="4413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Tricuspid Valve up clos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5880" y="1371240"/>
            <a:ext cx="2362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tricuspid valve allows blood to flow from the right atrium into the right ventric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Picture 8" descr="http://www.heartlab.rri.on.ca/dissect/rv_tricuspid2.jpg"/>
          <p:cNvPicPr/>
          <p:nvPr/>
        </p:nvPicPr>
        <p:blipFill>
          <a:blip r:embed="rId1"/>
          <a:stretch/>
        </p:blipFill>
        <p:spPr>
          <a:xfrm>
            <a:off x="380880" y="1295280"/>
            <a:ext cx="5639040" cy="3575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lmonary Valv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When the heart is contracting, the pulmonary valve is open because the blood pushes the cusps out of the way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After contracting, the ventricles begin to relax and the pulmonary valve closes and prevents back-flow (called </a:t>
            </a:r>
            <a:r>
              <a:rPr b="0" i="1" lang="en-US" sz="2400" spc="-1" strike="noStrike">
                <a:solidFill>
                  <a:srgbClr val="f8f8f8"/>
                </a:solidFill>
                <a:latin typeface="Tahoma"/>
              </a:rPr>
              <a:t>regurgitation</a:t>
            </a: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) of blood into the ventricl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7" descr="http://www.heartlab.rri.on.ca/dissect/rv_pulmonary.jpg"/>
          <p:cNvPicPr/>
          <p:nvPr/>
        </p:nvPicPr>
        <p:blipFill>
          <a:blip r:embed="rId1"/>
          <a:stretch/>
        </p:blipFill>
        <p:spPr>
          <a:xfrm>
            <a:off x="685800" y="1560600"/>
            <a:ext cx="3809880" cy="4118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ft Ventricl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is longitudinal incision extends from the bottom to the top of the left ventricle, then continues up into the atrium to allow us to view the entire left heart.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9" name="Picture 7" descr="http://www.heartlab.rri.on.ca/dissect/lv_incision.jpg"/>
          <p:cNvPicPr/>
          <p:nvPr/>
        </p:nvPicPr>
        <p:blipFill>
          <a:blip r:embed="rId1"/>
          <a:stretch/>
        </p:blipFill>
        <p:spPr>
          <a:xfrm>
            <a:off x="685800" y="1389240"/>
            <a:ext cx="3809880" cy="44607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Mitral (bicuspid) valve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itral valve prevents blood from flowing back into the left atrium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itral valve is positioned between the atrium (at top) and ventricle (at bottom). 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3" name="Picture 7" descr="http://www.heartlab.rri.on.ca/dissect/lv_mitral.jpg"/>
          <p:cNvPicPr/>
          <p:nvPr/>
        </p:nvPicPr>
        <p:blipFill>
          <a:blip r:embed="rId1"/>
          <a:stretch/>
        </p:blipFill>
        <p:spPr>
          <a:xfrm>
            <a:off x="685800" y="2043000"/>
            <a:ext cx="3809880" cy="31514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8"/>
          <p:cNvSpPr/>
          <p:nvPr/>
        </p:nvSpPr>
        <p:spPr>
          <a:xfrm>
            <a:off x="72388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6600ff"/>
                </a:solidFill>
                <a:latin typeface="Times New Roman"/>
              </a:rPr>
              <a:t>BiologyMad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0:02:55Z</dcterms:created>
  <dc:creator>Trevor</dc:creator>
  <dc:description/>
  <dc:language>en-US</dc:language>
  <cp:lastModifiedBy>USUARIO</cp:lastModifiedBy>
  <dcterms:modified xsi:type="dcterms:W3CDTF">2013-02-18T20:45:39Z</dcterms:modified>
  <cp:revision>6</cp:revision>
  <dc:subject/>
  <dc:title>HEART DISSECTION</dc:title>
</cp:coreProperties>
</file>